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1F9-8FB5-40A8-AF9F-EFE473A6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4D1-FCAE-4E52-9BD1-CF7DDAC4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9ED-56DD-4EFA-BC38-FC56EEE9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DBC-D273-4539-96B0-C733E5F1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4BB-27CB-4404-BADB-0080D3FF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D25-717F-46A7-92FE-575753CD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B52-BBC8-40ED-B10E-B0879AD4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CCB-A50F-47D3-9467-8242EE99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769-E747-4EEF-9A31-6C36B81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669-BF1A-4008-BF65-02657BA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8B5-B5C6-4F25-9931-55A260A7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D9B-337D-4002-8C8C-3C06AD6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99B-7DC9-4735-ADA1-ECA054B59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WE (źródła 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WC ( drenu 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WB (bramki 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4840" y="6285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W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2160" y="5508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W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000" y="56664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W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5520" y="1822320"/>
                <a:ext cx="115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86440" y="5759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m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47160" y="572436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d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66480" y="572436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częstotliwości 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415880" y="2145960"/>
            <a:ext cx="6890040" cy="3421440"/>
            <a:chOff x="1415880" y="2145960"/>
            <a:chExt cx="6890040" cy="3421440"/>
          </a:xfrm>
        </p:grpSpPr>
        <p:sp>
          <p:nvSpPr>
            <p:cNvPr id="495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499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460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średni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415880" y="2145960"/>
            <a:ext cx="7071480" cy="3761640"/>
            <a:chOff x="1415880" y="2145960"/>
            <a:chExt cx="7071480" cy="3761640"/>
          </a:xfrm>
        </p:grpSpPr>
        <p:sp>
          <p:nvSpPr>
            <p:cNvPr id="512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516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4440" y="3855960"/>
            <a:ext cx="8838720" cy="22892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średnich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kondensatorów z modeli małosygnałowyvh tranzys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553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584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592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601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620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92120" y="944640"/>
            <a:ext cx="5286240" cy="2617200"/>
            <a:chOff x="1392120" y="944640"/>
            <a:chExt cx="5286240" cy="2617200"/>
          </a:xfrm>
        </p:grpSpPr>
        <p:sp>
          <p:nvSpPr>
            <p:cNvPr id="629" name=""/>
            <p:cNvSpPr/>
            <p:nvPr/>
          </p:nvSpPr>
          <p:spPr>
            <a:xfrm>
              <a:off x="3830400" y="1836360"/>
              <a:ext cx="507960" cy="3348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90880" y="2836440"/>
              <a:ext cx="37620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77280" y="287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12280" y="2984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57240" y="1169640"/>
              <a:ext cx="177840" cy="469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46160" y="99036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46160" y="1628280"/>
              <a:ext cx="180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95560" y="1267920"/>
              <a:ext cx="379440" cy="334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77280" y="1311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12280" y="1414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2320" y="28303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13360" y="2633400"/>
              <a:ext cx="377640" cy="334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0760" y="1927080"/>
              <a:ext cx="528840" cy="526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81320" y="2036520"/>
              <a:ext cx="7920" cy="298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101840" y="1990080"/>
              <a:ext cx="260280" cy="115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101840" y="2230200"/>
              <a:ext cx="161640" cy="108720"/>
              <a:chOff x="4101840" y="2230200"/>
              <a:chExt cx="161640" cy="108720"/>
            </a:xfrm>
          </p:grpSpPr>
          <p:sp>
            <p:nvSpPr>
              <p:cNvPr id="645" name=""/>
              <p:cNvSpPr/>
              <p:nvPr/>
            </p:nvSpPr>
            <p:spPr>
              <a:xfrm>
                <a:off x="4101840" y="2251080"/>
                <a:ext cx="16164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32800" y="2230200"/>
                <a:ext cx="13068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4263840" y="2334960"/>
              <a:ext cx="98280" cy="4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20760" y="2193480"/>
              <a:ext cx="168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62120" y="1795320"/>
              <a:ext cx="1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74840" y="2182320"/>
              <a:ext cx="1652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354200" y="2382480"/>
              <a:ext cx="972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75000" y="115524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62120" y="96948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2120" y="1614240"/>
              <a:ext cx="180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05040" y="1252080"/>
              <a:ext cx="37944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77400" y="1294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12400" y="1398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57240" y="273816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46160" y="1821960"/>
              <a:ext cx="180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46160" y="3190680"/>
              <a:ext cx="18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00240" y="3427200"/>
              <a:ext cx="4578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5360" y="975960"/>
              <a:ext cx="28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672240" y="975960"/>
              <a:ext cx="0" cy="24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19280" y="944640"/>
              <a:ext cx="68400" cy="59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05120" y="33922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19280" y="3392280"/>
              <a:ext cx="6840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06560" y="2134800"/>
              <a:ext cx="7164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1392120" y="2095200"/>
              <a:ext cx="890280" cy="1311840"/>
              <a:chOff x="1392120" y="2095200"/>
              <a:chExt cx="890280" cy="1311840"/>
            </a:xfrm>
          </p:grpSpPr>
          <p:sp>
            <p:nvSpPr>
              <p:cNvPr id="669" name=""/>
              <p:cNvSpPr/>
              <p:nvPr/>
            </p:nvSpPr>
            <p:spPr>
              <a:xfrm>
                <a:off x="1565280" y="215244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65280" y="340452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0200" y="22780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565280" y="2139480"/>
                <a:ext cx="0" cy="126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16200000">
                <a:off x="1807200" y="1999080"/>
                <a:ext cx="12528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92120" y="2514600"/>
                <a:ext cx="343800" cy="37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1565280" y="25704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81200" y="2805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352760" y="1795320"/>
              <a:ext cx="18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171840" y="1795320"/>
              <a:ext cx="0" cy="16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95880" y="211896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32240" y="340164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22520" y="17650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84720" y="1347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08360" y="164124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1120" y="269856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9933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340240" y="2642760"/>
              <a:ext cx="542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71240" y="129816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1520" y="16142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3311280" y="2346120"/>
              <a:ext cx="7920" cy="83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71040" y="276516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35240" y="207144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12880" y="320472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108400" y="2045880"/>
              <a:ext cx="0" cy="1088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55520" y="3538440"/>
            <a:ext cx="8667720" cy="3097440"/>
            <a:chOff x="155520" y="3538440"/>
            <a:chExt cx="8667720" cy="3097440"/>
          </a:xfrm>
        </p:grpSpPr>
        <p:sp>
          <p:nvSpPr>
            <p:cNvPr id="694" name=""/>
            <p:cNvSpPr/>
            <p:nvPr/>
          </p:nvSpPr>
          <p:spPr>
            <a:xfrm>
              <a:off x="1768320" y="4726080"/>
              <a:ext cx="0" cy="11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5130720" y="6181560"/>
                  <a:ext cx="295272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3479760" y="496404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938920" y="4857840"/>
              <a:ext cx="456480" cy="771120"/>
              <a:chOff x="5938920" y="4857840"/>
              <a:chExt cx="456480" cy="771120"/>
            </a:xfrm>
          </p:grpSpPr>
          <p:sp>
            <p:nvSpPr>
              <p:cNvPr id="698" name=""/>
              <p:cNvSpPr/>
              <p:nvPr/>
            </p:nvSpPr>
            <p:spPr>
              <a:xfrm>
                <a:off x="5938920" y="4857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950800" y="5135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90920" y="5046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251240" y="5122800"/>
              <a:ext cx="353880" cy="87120"/>
              <a:chOff x="4251240" y="5122800"/>
              <a:chExt cx="353880" cy="87120"/>
            </a:xfrm>
          </p:grpSpPr>
          <p:sp>
            <p:nvSpPr>
              <p:cNvPr id="702" name=""/>
              <p:cNvSpPr/>
              <p:nvPr/>
            </p:nvSpPr>
            <p:spPr>
              <a:xfrm>
                <a:off x="4258080" y="512280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51240" y="520992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917960" y="4569120"/>
              <a:ext cx="88560" cy="348840"/>
              <a:chOff x="4917960" y="4569120"/>
              <a:chExt cx="88560" cy="34884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4917960" y="456912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006520" y="457596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2023920" y="4722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70280" y="474192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581280" y="474192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432320" y="4741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81280" y="553896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51400" y="52164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63600" y="5899320"/>
              <a:ext cx="58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99200" y="4761000"/>
              <a:ext cx="9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92720" y="476100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7364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19280" y="421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92520" y="44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0640" y="566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54680" y="5070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851520" y="4761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7060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86080" y="4071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17720" y="5048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0440" y="5040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91320" y="4052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08560" y="496584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062080" y="4874760"/>
              <a:ext cx="7920" cy="825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67920" y="50641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3209760" y="4890960"/>
              <a:ext cx="0" cy="873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65400" y="4221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6760" y="5859360"/>
              <a:ext cx="828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10280" y="5827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32440" y="58388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32320" y="4680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53120" y="473076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1640" y="4710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5086440" y="3633840"/>
              <a:ext cx="18864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432320" y="388728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192720" y="3904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81560" y="4711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2874960" y="5886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43" name=""/>
            <p:cNvSpPr/>
            <p:nvPr/>
          </p:nvSpPr>
          <p:spPr>
            <a:xfrm>
              <a:off x="1511280" y="4722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31760" y="41292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155520" y="4619520"/>
              <a:ext cx="1077840" cy="1330560"/>
              <a:chOff x="155520" y="4619520"/>
              <a:chExt cx="1077840" cy="133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65040" y="5946840"/>
                <a:ext cx="66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5520" y="480852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rot="16200000">
                <a:off x="67176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5520" y="5045040"/>
                <a:ext cx="41580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03640" y="53434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6480000" y="4052880"/>
                  <a:ext cx="22053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5" name=""/>
            <p:cNvSpPr/>
            <p:nvPr/>
          </p:nvSpPr>
          <p:spPr>
            <a:xfrm flipV="1">
              <a:off x="5332320" y="5417640"/>
              <a:ext cx="53208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2320" y="583740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2584440" y="4425480"/>
              <a:ext cx="190440" cy="581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856640" y="4824360"/>
              <a:ext cx="0" cy="928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31160" y="496728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8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3232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476680" y="3905280"/>
              <a:ext cx="73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333840" y="476244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3807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7210440" y="3538440"/>
                  <a:ext cx="16128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5" name=""/>
            <p:cNvSpPr/>
            <p:nvPr/>
          </p:nvSpPr>
          <p:spPr>
            <a:xfrm>
              <a:off x="4429080" y="47512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998600" y="4775040"/>
              <a:ext cx="11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1149480" y="6181560"/>
                  <a:ext cx="133812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8" name=""/>
            <p:cNvSpPr/>
            <p:nvPr/>
          </p:nvSpPr>
          <p:spPr>
            <a:xfrm>
              <a:off x="1690560" y="505944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46360" y="469584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24040" y="588168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03200" y="5122800"/>
              <a:ext cx="289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20160" y="52927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84360" y="4599000"/>
              <a:ext cx="0" cy="14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2000" y="573264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dla częstotliwości śred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6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3600" y="117936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3772080" y="96696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538560" y="21510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33720" y="1940040"/>
                <a:ext cx="4200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592920" y="38908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046400" y="3726000"/>
                <a:ext cx="4232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681520" y="5207040"/>
                <a:ext cx="2629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567000" y="298116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5450040" y="2770200"/>
                <a:ext cx="2885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WC: tzw.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150920" y="682560"/>
            <a:ext cx="5558400" cy="2777400"/>
            <a:chOff x="1150920" y="682560"/>
            <a:chExt cx="5558400" cy="2777400"/>
          </a:xfrm>
        </p:grpSpPr>
        <p:sp>
          <p:nvSpPr>
            <p:cNvPr id="795" name=""/>
            <p:cNvSpPr/>
            <p:nvPr/>
          </p:nvSpPr>
          <p:spPr>
            <a:xfrm>
              <a:off x="5386320" y="20858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997440" y="2082960"/>
              <a:ext cx="49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2868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01880" y="873000"/>
              <a:ext cx="174600" cy="4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89360" y="722160"/>
              <a:ext cx="1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89360" y="1265400"/>
              <a:ext cx="14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24400" y="958680"/>
              <a:ext cx="376200" cy="284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52440" y="95076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00600" y="2224080"/>
              <a:ext cx="17280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87720" y="207324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29200" y="2308320"/>
              <a:ext cx="374400" cy="284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01920" y="2343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46520" y="682560"/>
              <a:ext cx="745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72280" y="180648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51400" y="1519200"/>
              <a:ext cx="522000" cy="449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10160" y="1612800"/>
              <a:ext cx="6120" cy="254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732120" y="1572840"/>
              <a:ext cx="25560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732120" y="1778040"/>
              <a:ext cx="156960" cy="92160"/>
              <a:chOff x="3732120" y="1778040"/>
              <a:chExt cx="156960" cy="92160"/>
            </a:xfrm>
          </p:grpSpPr>
          <p:sp>
            <p:nvSpPr>
              <p:cNvPr id="813" name=""/>
              <p:cNvSpPr/>
              <p:nvPr/>
            </p:nvSpPr>
            <p:spPr>
              <a:xfrm>
                <a:off x="3732120" y="1795680"/>
                <a:ext cx="156960" cy="70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62360" y="1778040"/>
                <a:ext cx="126720" cy="9216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3889440" y="1866960"/>
              <a:ext cx="982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551400" y="1746360"/>
              <a:ext cx="164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987720" y="1407600"/>
              <a:ext cx="18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60840" y="1743120"/>
              <a:ext cx="796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003560" y="1906560"/>
              <a:ext cx="1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83040" y="682560"/>
              <a:ext cx="64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29200" y="944640"/>
              <a:ext cx="374400" cy="28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01880" y="2209680"/>
              <a:ext cx="17460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89360" y="1430280"/>
              <a:ext cx="144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52640" y="709560"/>
              <a:ext cx="310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16520" y="1671480"/>
              <a:ext cx="3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94280" y="17254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816520" y="153828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94280" y="1595520"/>
              <a:ext cx="177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77080" y="172548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977080" y="7095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44880" y="682560"/>
              <a:ext cx="666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34240" y="682560"/>
              <a:ext cx="727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44880" y="2058840"/>
              <a:ext cx="666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84800" y="1471680"/>
              <a:ext cx="501840" cy="2826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71920" y="15066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03680" y="15955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41880" y="1193760"/>
              <a:ext cx="30636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17480" y="123048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26040" y="1778040"/>
              <a:ext cx="30960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37640" y="18032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503600" y="1982880"/>
              <a:ext cx="49320" cy="201600"/>
              <a:chOff x="4503600" y="1982880"/>
              <a:chExt cx="49320" cy="201600"/>
            </a:xfrm>
          </p:grpSpPr>
          <p:sp>
            <p:nvSpPr>
              <p:cNvPr id="842" name=""/>
              <p:cNvSpPr/>
              <p:nvPr/>
            </p:nvSpPr>
            <p:spPr>
              <a:xfrm>
                <a:off x="450360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55292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564080" y="208908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47960" y="169848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13240" y="2217600"/>
              <a:ext cx="166680" cy="4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654520" y="2117520"/>
              <a:ext cx="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2104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4240" y="127008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70520" y="1413000"/>
              <a:ext cx="0" cy="19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87720" y="2614680"/>
              <a:ext cx="18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33680" y="2430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89360" y="259704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08200" y="279720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46520" y="276696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44880" y="276696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34240" y="276696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45280" y="275112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1150920" y="1677960"/>
              <a:ext cx="857160" cy="1116720"/>
              <a:chOff x="1150920" y="1677960"/>
              <a:chExt cx="857160" cy="1116720"/>
            </a:xfrm>
          </p:grpSpPr>
          <p:sp>
            <p:nvSpPr>
              <p:cNvPr id="860" name=""/>
              <p:cNvSpPr/>
              <p:nvPr/>
            </p:nvSpPr>
            <p:spPr>
              <a:xfrm>
                <a:off x="1298520" y="172728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22000" y="18352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1298520" y="1717560"/>
                <a:ext cx="0" cy="10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16200000">
                <a:off x="1546560" y="1574640"/>
                <a:ext cx="108000" cy="31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50920" y="2025720"/>
                <a:ext cx="339840" cy="31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298520" y="20829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13360" y="228456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8520" y="279252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2735640" y="302256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14480" y="303696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63400" y="305424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50920" y="30542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2485800" y="1612800"/>
              <a:ext cx="249480" cy="276120"/>
              <a:chOff x="2485800" y="1612800"/>
              <a:chExt cx="249480" cy="2761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2679840" y="1612800"/>
                <a:ext cx="55440" cy="276120"/>
                <a:chOff x="2679840" y="1612800"/>
                <a:chExt cx="55440" cy="27612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2679840" y="1620720"/>
                  <a:ext cx="0" cy="26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735280" y="1612800"/>
                  <a:ext cx="0" cy="27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 flipH="1">
                <a:off x="2485800" y="173196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155520" y="3225960"/>
            <a:ext cx="8655120" cy="3632040"/>
            <a:chOff x="155520" y="3225960"/>
            <a:chExt cx="8655120" cy="3632040"/>
          </a:xfrm>
        </p:grpSpPr>
        <p:sp>
          <p:nvSpPr>
            <p:cNvPr id="878" name=""/>
            <p:cNvSpPr/>
            <p:nvPr/>
          </p:nvSpPr>
          <p:spPr>
            <a:xfrm>
              <a:off x="5046480" y="3635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8040" y="5159520"/>
              <a:ext cx="185760" cy="52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00000">
              <a:off x="3249360" y="4650840"/>
              <a:ext cx="174600" cy="558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094440" y="5316480"/>
              <a:ext cx="42696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6105600" y="5060880"/>
              <a:ext cx="42840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337440" y="518004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6600" y="53053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70480" y="538632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110200" y="4794120"/>
              <a:ext cx="0" cy="316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195880" y="479880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6840" y="493704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19520" y="495468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214880" y="49546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645080" y="49546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14880" y="56880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62360" y="5391000"/>
              <a:ext cx="0" cy="66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98680" y="601992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02360" y="49719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38880" y="4971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1980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78240" y="457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160" y="46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11520" y="580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78520" y="5257800"/>
              <a:ext cx="187560" cy="525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972480" y="49719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8976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56040" y="433692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00120" y="52466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07080" y="5229360"/>
              <a:ext cx="74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07040" y="44686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79840" y="52578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19520" y="598320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59680" y="5972040"/>
              <a:ext cx="7920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53400" y="5981760"/>
              <a:ext cx="77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67360" y="4897440"/>
              <a:ext cx="806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00720" y="49435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43680" y="492588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45080" y="41670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338880" y="418428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620960" y="418464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5760" y="4925880"/>
              <a:ext cx="777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3524400" y="6008760"/>
                  <a:ext cx="11880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3497400" y="6367320"/>
                  <a:ext cx="436392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1498680" y="4937040"/>
              <a:ext cx="14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17920" y="43894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6586560" y="497052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09680" y="44467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789680" y="5013360"/>
              <a:ext cx="437760" cy="1039320"/>
              <a:chOff x="7789680" y="5013360"/>
              <a:chExt cx="437760" cy="1039320"/>
            </a:xfrm>
          </p:grpSpPr>
          <p:sp>
            <p:nvSpPr>
              <p:cNvPr id="926" name=""/>
              <p:cNvSpPr/>
              <p:nvPr/>
            </p:nvSpPr>
            <p:spPr>
              <a:xfrm flipH="1">
                <a:off x="8040960" y="5256000"/>
                <a:ext cx="186120" cy="524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47160" y="5013360"/>
                <a:ext cx="0" cy="2440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89680" y="502956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147160" y="5780880"/>
                <a:ext cx="0" cy="2718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7795800" y="603108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8259480" y="468936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2040" y="5994360"/>
              <a:ext cx="792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55520" y="4809960"/>
              <a:ext cx="1036440" cy="1225080"/>
              <a:chOff x="155520" y="4809960"/>
              <a:chExt cx="1036440" cy="1225080"/>
            </a:xfrm>
          </p:grpSpPr>
          <p:sp>
            <p:nvSpPr>
              <p:cNvPr id="934" name=""/>
              <p:cNvSpPr/>
              <p:nvPr/>
            </p:nvSpPr>
            <p:spPr>
              <a:xfrm>
                <a:off x="356400" y="486432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6400" y="6032880"/>
                <a:ext cx="6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06880" y="4983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356400" y="4851720"/>
                <a:ext cx="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6200000">
                <a:off x="655560" y="4683600"/>
                <a:ext cx="117000" cy="369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55520" y="5201280"/>
                <a:ext cx="399600" cy="34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56400" y="5253120"/>
                <a:ext cx="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5720" y="54766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3669840" y="443880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3889440" y="5092200"/>
              <a:ext cx="0" cy="838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59160" y="4451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6200000">
              <a:off x="5253840" y="3940920"/>
              <a:ext cx="149040" cy="50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6" name=""/>
                <p:cNvSpPr txBox="1"/>
                <p:nvPr/>
              </p:nvSpPr>
              <p:spPr>
                <a:xfrm>
                  <a:off x="6602400" y="3905280"/>
                  <a:ext cx="22050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7" name=""/>
                <p:cNvSpPr txBox="1"/>
                <p:nvPr/>
              </p:nvSpPr>
              <p:spPr>
                <a:xfrm>
                  <a:off x="6850080" y="3225960"/>
                  <a:ext cx="1897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"/>
            <p:cNvSpPr/>
            <p:nvPr/>
          </p:nvSpPr>
          <p:spPr>
            <a:xfrm flipH="1">
              <a:off x="3611160" y="494820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21600" y="4986360"/>
              <a:ext cx="10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300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3406680" y="1427040"/>
                <a:ext cx="3699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22104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051440" y="2536920"/>
                <a:ext cx="3651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"/>
          <p:cNvSpPr/>
          <p:nvPr/>
        </p:nvSpPr>
        <p:spPr>
          <a:xfrm>
            <a:off x="275400" y="359424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625920" y="3635280"/>
                <a:ext cx="5344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7" name=""/>
          <p:cNvSpPr/>
          <p:nvPr/>
        </p:nvSpPr>
        <p:spPr>
          <a:xfrm>
            <a:off x="26316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3595680" y="4454640"/>
                <a:ext cx="5092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9" name=""/>
          <p:cNvSpPr/>
          <p:nvPr/>
        </p:nvSpPr>
        <p:spPr>
          <a:xfrm>
            <a:off x="34344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636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640480" y="4649760"/>
            <a:ext cx="456480" cy="771120"/>
            <a:chOff x="5640480" y="4649760"/>
            <a:chExt cx="456480" cy="771120"/>
          </a:xfrm>
        </p:grpSpPr>
        <p:sp>
          <p:nvSpPr>
            <p:cNvPr id="965" name=""/>
            <p:cNvSpPr/>
            <p:nvPr/>
          </p:nvSpPr>
          <p:spPr>
            <a:xfrm flipV="1">
              <a:off x="5640480" y="492768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5652360" y="4649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892480" y="47779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952800" y="4915080"/>
            <a:ext cx="353880" cy="86760"/>
            <a:chOff x="3952800" y="4915080"/>
            <a:chExt cx="353880" cy="86760"/>
          </a:xfrm>
        </p:grpSpPr>
        <p:sp>
          <p:nvSpPr>
            <p:cNvPr id="969" name=""/>
            <p:cNvSpPr/>
            <p:nvPr/>
          </p:nvSpPr>
          <p:spPr>
            <a:xfrm>
              <a:off x="3959640" y="491508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52800" y="500184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1768320" y="4514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928880" y="453384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133880" y="453384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2960" y="50086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03200" y="5691240"/>
            <a:ext cx="660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94280" y="4552920"/>
            <a:ext cx="19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894280" y="4552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875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07720" y="408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68720" y="3979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25760" y="577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9128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18812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07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80960" y="4836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02000" y="483228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87840" y="4863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738520" y="4716360"/>
            <a:ext cx="0" cy="873360"/>
          </a:xfrm>
          <a:prstGeom prst="line">
            <a:avLst/>
          </a:prstGeom>
          <a:ln w="1908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440440" y="395604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08320" y="5651640"/>
            <a:ext cx="828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11840" y="5638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9772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54680" y="4522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99160" y="4514760"/>
            <a:ext cx="828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787640" y="3882600"/>
            <a:ext cx="18900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4133880" y="416232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33880" y="41544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5894280" y="41540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178240" y="4154400"/>
            <a:ext cx="69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83120" y="450360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970360" y="5678640"/>
                <a:ext cx="123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094200" y="6067440"/>
                <a:ext cx="423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1317600" y="450216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75800" y="39211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19240" y="4280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7397280" y="45514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35440" y="40464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8283960" y="4564080"/>
            <a:ext cx="455400" cy="1128240"/>
            <a:chOff x="8283960" y="4564080"/>
            <a:chExt cx="455400" cy="1128240"/>
          </a:xfrm>
        </p:grpSpPr>
        <p:sp>
          <p:nvSpPr>
            <p:cNvPr id="1009" name=""/>
            <p:cNvSpPr/>
            <p:nvPr/>
          </p:nvSpPr>
          <p:spPr>
            <a:xfrm flipH="1">
              <a:off x="8545680" y="4827240"/>
              <a:ext cx="193680" cy="5695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655480" y="4564080"/>
              <a:ext cx="0" cy="26496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8283960" y="4581360"/>
              <a:ext cx="3524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655480" y="5397120"/>
              <a:ext cx="0" cy="2952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8290440" y="5668560"/>
              <a:ext cx="352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8316360" y="40179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0844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00528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2436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98620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75040" y="4502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6432840" y="5113440"/>
            <a:ext cx="348840" cy="88560"/>
            <a:chOff x="6432840" y="5113440"/>
            <a:chExt cx="348840" cy="88560"/>
          </a:xfrm>
        </p:grpSpPr>
        <p:sp>
          <p:nvSpPr>
            <p:cNvPr id="1021" name=""/>
            <p:cNvSpPr/>
            <p:nvPr/>
          </p:nvSpPr>
          <p:spPr>
            <a:xfrm flipH="1">
              <a:off x="6432840" y="520200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439680" y="511344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6640560" y="52005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6640560" y="4552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45280" y="44895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83440" y="5645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55520" y="4440240"/>
            <a:ext cx="1077840" cy="1329480"/>
            <a:chOff x="155520" y="4440240"/>
            <a:chExt cx="1077840" cy="1329480"/>
          </a:xfrm>
        </p:grpSpPr>
        <p:sp>
          <p:nvSpPr>
            <p:cNvPr id="1028" name=""/>
            <p:cNvSpPr/>
            <p:nvPr/>
          </p:nvSpPr>
          <p:spPr>
            <a:xfrm>
              <a:off x="364680" y="4499280"/>
              <a:ext cx="8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4680" y="5767560"/>
              <a:ext cx="66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5520" y="462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64680" y="4485600"/>
              <a:ext cx="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rot="16200000">
              <a:off x="671760" y="431172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5520" y="4865040"/>
              <a:ext cx="415440" cy="37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364680" y="49212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3640" y="51638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2289240" y="1033200"/>
            <a:ext cx="936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004840" y="1038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rot="5400000">
            <a:off x="3359160" y="943560"/>
            <a:ext cx="498240" cy="5223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3463560" y="1296720"/>
            <a:ext cx="297000" cy="6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692520" y="1037880"/>
            <a:ext cx="117360" cy="244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462480" y="1131480"/>
            <a:ext cx="107280" cy="150840"/>
            <a:chOff x="3462480" y="1131480"/>
            <a:chExt cx="107280" cy="150840"/>
          </a:xfrm>
        </p:grpSpPr>
        <p:sp>
          <p:nvSpPr>
            <p:cNvPr id="1042" name=""/>
            <p:cNvSpPr/>
            <p:nvPr/>
          </p:nvSpPr>
          <p:spPr>
            <a:xfrm flipH="1" flipV="1">
              <a:off x="3467160" y="1131480"/>
              <a:ext cx="82080" cy="150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rot="5400000">
              <a:off x="3455280" y="1139040"/>
              <a:ext cx="121680" cy="10728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 flipH="1" flipV="1">
            <a:off x="3417840" y="1038240"/>
            <a:ext cx="46080" cy="9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3603600" y="1297080"/>
            <a:ext cx="1440" cy="156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818880" y="1017360"/>
            <a:ext cx="25606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9920" y="103824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 rot="5400000">
            <a:off x="5668200" y="100008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rot="5400000">
            <a:off x="2451960" y="101520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532120" y="2260440"/>
            <a:ext cx="33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595840" y="2317680"/>
            <a:ext cx="1857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5532120" y="211788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95840" y="2179800"/>
            <a:ext cx="18576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016680" y="2031840"/>
            <a:ext cx="317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753520" y="18525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5777280" y="2401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3063960" y="2206440"/>
            <a:ext cx="234720" cy="45720"/>
            <a:chOff x="3063960" y="2206440"/>
            <a:chExt cx="234720" cy="45720"/>
          </a:xfrm>
        </p:grpSpPr>
        <p:sp>
          <p:nvSpPr>
            <p:cNvPr id="1058" name=""/>
            <p:cNvSpPr/>
            <p:nvPr/>
          </p:nvSpPr>
          <p:spPr>
            <a:xfrm flipH="1">
              <a:off x="3063960" y="225216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063960" y="220644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247480" y="944640"/>
            <a:ext cx="50760" cy="216000"/>
            <a:chOff x="2247480" y="944640"/>
            <a:chExt cx="50760" cy="216000"/>
          </a:xfrm>
        </p:grpSpPr>
        <p:sp>
          <p:nvSpPr>
            <p:cNvPr id="1061" name=""/>
            <p:cNvSpPr/>
            <p:nvPr/>
          </p:nvSpPr>
          <p:spPr>
            <a:xfrm>
              <a:off x="229824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4748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 flipV="1">
            <a:off x="2486160" y="102348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7760" y="145260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13000" y="1827360"/>
            <a:ext cx="24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692680" y="104436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rot="5400000">
            <a:off x="3567240" y="179856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rot="5400000">
            <a:off x="5653800" y="179784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410560" y="12747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01600" y="127800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rot="5400000">
            <a:off x="4053600" y="1587960"/>
            <a:ext cx="166680" cy="46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486960" y="2006640"/>
            <a:ext cx="181080" cy="42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13000" y="2274840"/>
            <a:ext cx="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13000" y="182736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92680" y="2317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84640" y="12142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44720" y="12351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02480" y="190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391080" y="925560"/>
            <a:ext cx="52200" cy="214200"/>
            <a:chOff x="6391080" y="925560"/>
            <a:chExt cx="52200" cy="214200"/>
          </a:xfrm>
        </p:grpSpPr>
        <p:sp>
          <p:nvSpPr>
            <p:cNvPr id="1080" name=""/>
            <p:cNvSpPr/>
            <p:nvPr/>
          </p:nvSpPr>
          <p:spPr>
            <a:xfrm>
              <a:off x="64432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10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459480" y="102564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7642080" y="12013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4200" y="1052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74640" y="938160"/>
            <a:ext cx="1311120" cy="1728360"/>
            <a:chOff x="674640" y="938160"/>
            <a:chExt cx="1311120" cy="1728360"/>
          </a:xfrm>
        </p:grpSpPr>
        <p:sp>
          <p:nvSpPr>
            <p:cNvPr id="1086" name=""/>
            <p:cNvSpPr/>
            <p:nvPr/>
          </p:nvSpPr>
          <p:spPr>
            <a:xfrm>
              <a:off x="928800" y="101484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928800" y="2662920"/>
              <a:ext cx="80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10600" y="11829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928800" y="997560"/>
              <a:ext cx="0" cy="16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16200000">
              <a:off x="1298520" y="786960"/>
              <a:ext cx="165240" cy="467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4640" y="1490040"/>
              <a:ext cx="505440" cy="49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928800" y="15627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94040" y="1878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6915240" y="1026720"/>
            <a:ext cx="0" cy="16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842880" y="150336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26560" y="15606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rot="5400000">
            <a:off x="5649120" y="2620800"/>
            <a:ext cx="633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84560" y="2662200"/>
            <a:ext cx="46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rot="5400000">
            <a:off x="3555000" y="263232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 rot="5400000">
            <a:off x="3168720" y="264312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02440" y="271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94200" y="2852640"/>
            <a:ext cx="21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rot="5400000">
            <a:off x="2453400" y="2614320"/>
            <a:ext cx="637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2230920" y="717480"/>
            <a:ext cx="786960" cy="2670120"/>
            <a:chOff x="2230920" y="717480"/>
            <a:chExt cx="786960" cy="2670120"/>
          </a:xfrm>
        </p:grpSpPr>
        <p:sp>
          <p:nvSpPr>
            <p:cNvPr id="1105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30920" y="290664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338560" y="29034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749480" y="816120"/>
            <a:ext cx="990000" cy="2543760"/>
            <a:chOff x="4749480" y="816120"/>
            <a:chExt cx="990000" cy="2543760"/>
          </a:xfrm>
        </p:grpSpPr>
        <p:sp>
          <p:nvSpPr>
            <p:cNvPr id="110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04800" y="295416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4749480" y="287820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3" name=""/>
          <p:cNvSpPr/>
          <p:nvPr/>
        </p:nvSpPr>
        <p:spPr>
          <a:xfrm flipV="1">
            <a:off x="1619280" y="4514760"/>
            <a:ext cx="0" cy="11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1548720" y="48783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086120" y="48308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5400000">
            <a:off x="1590480" y="4473000"/>
            <a:ext cx="637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rot="5400000">
            <a:off x="1577160" y="564984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665720" y="3987720"/>
            <a:ext cx="786960" cy="2670120"/>
            <a:chOff x="1665720" y="3987720"/>
            <a:chExt cx="786960" cy="2670120"/>
          </a:xfrm>
        </p:grpSpPr>
        <p:sp>
          <p:nvSpPr>
            <p:cNvPr id="1119" name=""/>
            <p:cNvSpPr/>
            <p:nvPr/>
          </p:nvSpPr>
          <p:spPr>
            <a:xfrm>
              <a:off x="2230560" y="398772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65720" y="617688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73360" y="61736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536960" y="3998880"/>
            <a:ext cx="990000" cy="2543760"/>
            <a:chOff x="7536960" y="3998880"/>
            <a:chExt cx="990000" cy="2543760"/>
          </a:xfrm>
        </p:grpSpPr>
        <p:sp>
          <p:nvSpPr>
            <p:cNvPr id="1123" name=""/>
            <p:cNvSpPr/>
            <p:nvPr/>
          </p:nvSpPr>
          <p:spPr>
            <a:xfrm>
              <a:off x="7772400" y="399888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92280" y="613692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7536960" y="60609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"/>
          <p:cNvSpPr/>
          <p:nvPr/>
        </p:nvSpPr>
        <p:spPr>
          <a:xfrm>
            <a:off x="468720" y="23544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159080" y="2133720"/>
                <a:ext cx="2757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0520" y="38656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854520" y="3713040"/>
                <a:ext cx="5079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470880" y="462132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51360" y="4626000"/>
                <a:ext cx="1407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467280" y="53769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464080" y="537840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7" name=""/>
          <p:cNvSpPr/>
          <p:nvPr/>
        </p:nvSpPr>
        <p:spPr>
          <a:xfrm>
            <a:off x="4698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3743280" y="6153120"/>
                <a:ext cx="1231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66920" y="311004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470560" y="2905200"/>
                <a:ext cx="226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 w zakresie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155520" y="1830240"/>
          <a:ext cx="875340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830240"/>
                    <a:ext cx="8753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 -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28600" y="1074600"/>
            <a:ext cx="8534520" cy="5213520"/>
            <a:chOff x="228600" y="1074600"/>
            <a:chExt cx="8534520" cy="5213520"/>
          </a:xfrm>
        </p:grpSpPr>
        <p:pic>
          <p:nvPicPr>
            <p:cNvPr id="1146" name="" descr=""/>
            <p:cNvPicPr/>
            <p:nvPr/>
          </p:nvPicPr>
          <p:blipFill>
            <a:blip r:embed="rId1"/>
            <a:stretch/>
          </p:blipFill>
          <p:spPr>
            <a:xfrm>
              <a:off x="228600" y="1074600"/>
              <a:ext cx="853452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"/>
            <p:cNvSpPr/>
            <p:nvPr/>
          </p:nvSpPr>
          <p:spPr>
            <a:xfrm>
              <a:off x="3367080" y="1424160"/>
              <a:ext cx="5907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90760" y="3938760"/>
              <a:ext cx="590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154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155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161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335760" y="16002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WE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155520" y="5056200"/>
                <a:ext cx="2586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≃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3759120" y="5281560"/>
                <a:ext cx="1279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3828960" y="571176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187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188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194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7220880" y="1600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C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3367080" y="618336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24" name=""/>
          <p:cNvGrpSpPr/>
          <p:nvPr/>
        </p:nvGrpSpPr>
        <p:grpSpPr>
          <a:xfrm>
            <a:off x="4538160" y="3414600"/>
            <a:ext cx="423000" cy="1274040"/>
            <a:chOff x="4538160" y="3414600"/>
            <a:chExt cx="423000" cy="1274040"/>
          </a:xfrm>
        </p:grpSpPr>
        <p:sp>
          <p:nvSpPr>
            <p:cNvPr id="1225" name=""/>
            <p:cNvSpPr/>
            <p:nvPr/>
          </p:nvSpPr>
          <p:spPr>
            <a:xfrm>
              <a:off x="4538160" y="43513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2840" y="3414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7148160" y="4230720"/>
            <a:ext cx="795960" cy="343800"/>
            <a:chOff x="7148160" y="4230720"/>
            <a:chExt cx="795960" cy="343800"/>
          </a:xfrm>
        </p:grpSpPr>
        <p:sp>
          <p:nvSpPr>
            <p:cNvPr id="1228" name=""/>
            <p:cNvSpPr/>
            <p:nvPr/>
          </p:nvSpPr>
          <p:spPr>
            <a:xfrm>
              <a:off x="7148160" y="4237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25800" y="42307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279360" y="2833560"/>
            <a:ext cx="2179800" cy="2143080"/>
            <a:chOff x="279360" y="2833560"/>
            <a:chExt cx="2179800" cy="2143080"/>
          </a:xfrm>
        </p:grpSpPr>
        <p:grpSp>
          <p:nvGrpSpPr>
            <p:cNvPr id="1231" name=""/>
            <p:cNvGrpSpPr/>
            <p:nvPr/>
          </p:nvGrpSpPr>
          <p:grpSpPr>
            <a:xfrm>
              <a:off x="279360" y="2943360"/>
              <a:ext cx="2155320" cy="2033280"/>
              <a:chOff x="279360" y="2943360"/>
              <a:chExt cx="2155320" cy="2033280"/>
            </a:xfrm>
          </p:grpSpPr>
          <p:sp>
            <p:nvSpPr>
              <p:cNvPr id="1232" name=""/>
              <p:cNvSpPr/>
              <p:nvPr/>
            </p:nvSpPr>
            <p:spPr>
              <a:xfrm>
                <a:off x="1793520" y="3515760"/>
                <a:ext cx="1440" cy="49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793520" y="3515400"/>
                <a:ext cx="25200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793520" y="3762360"/>
                <a:ext cx="25200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1286640" y="3762360"/>
                <a:ext cx="50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82680" y="32770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2030040" y="294336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2044080" y="3988800"/>
                <a:ext cx="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7600" y="3826080"/>
                <a:ext cx="15156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0" name=""/>
              <p:cNvGrpSpPr/>
              <p:nvPr/>
            </p:nvGrpSpPr>
            <p:grpSpPr>
              <a:xfrm>
                <a:off x="525600" y="3270240"/>
                <a:ext cx="760680" cy="504360"/>
                <a:chOff x="525600" y="3270240"/>
                <a:chExt cx="760680" cy="50436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1031760" y="3270240"/>
                  <a:ext cx="1440" cy="49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1031760" y="3270240"/>
                  <a:ext cx="251640" cy="24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031760" y="3517200"/>
                  <a:ext cx="2545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525600" y="3517200"/>
                  <a:ext cx="5061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0080" y="3570840"/>
                  <a:ext cx="18504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6" name=""/>
              <p:cNvSpPr/>
              <p:nvPr/>
            </p:nvSpPr>
            <p:spPr>
              <a:xfrm>
                <a:off x="1991160" y="324396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79360" y="312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068200" y="451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335600" y="4419000"/>
                <a:ext cx="70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1343880" y="375516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06440" y="370728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16360" y="438588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281600" y="3900600"/>
                <a:ext cx="129240" cy="363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>
              <a:off x="836280" y="28749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40840" y="3497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28960" y="2833560"/>
              <a:ext cx="0" cy="2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30360" y="3513240"/>
              <a:ext cx="223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84280" y="4429080"/>
              <a:ext cx="433440" cy="0"/>
            </a:xfrm>
            <a:prstGeom prst="line">
              <a:avLst/>
            </a:prstGeom>
            <a:ln w="19080">
              <a:solidFill>
                <a:srgbClr val="3399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88560" y="30272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903960" y="4541760"/>
              <a:ext cx="1122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ok. 0,1</a:t>
              </a:r>
              <a:r>
                <a:rPr b="1" lang="pl-PL" sz="10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B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kas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5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9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29000" y="377352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34040" y="2354400"/>
              <a:ext cx="0" cy="43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4335480" y="4467240"/>
            <a:ext cx="88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08920" y="624060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u               tranzystor WE,    pasm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zystor 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46280" y="6458040"/>
            <a:ext cx="531720" cy="74520"/>
          </a:xfrm>
          <a:prstGeom prst="rightArrow">
            <a:avLst>
              <a:gd name="adj1" fmla="val 50000"/>
              <a:gd name="adj2" fmla="val 178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595840" y="6448320"/>
            <a:ext cx="532080" cy="74880"/>
          </a:xfrm>
          <a:prstGeom prst="rightArrow">
            <a:avLst>
              <a:gd name="adj1" fmla="val 50000"/>
              <a:gd name="adj2" fmla="val 17764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 - symulacja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1940040" y="1968480"/>
            <a:ext cx="1287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W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679400" y="2760840"/>
            <a:ext cx="1287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958320" y="1641600"/>
            <a:ext cx="6576120" cy="4202640"/>
            <a:chOff x="958320" y="1641600"/>
            <a:chExt cx="6576120" cy="4202640"/>
          </a:xfrm>
        </p:grpSpPr>
        <p:sp>
          <p:nvSpPr>
            <p:cNvPr id="1306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1805040" y="4272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58320" y="40543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1917360" y="39639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7320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duż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1324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1327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4440" y="3855960"/>
            <a:ext cx="8613000" cy="18928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dużych częstotliwości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1361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1392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1400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1409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1428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1429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438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440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466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984240" y="1224000"/>
            <a:ext cx="7207200" cy="1871640"/>
            <a:chOff x="984240" y="1224000"/>
            <a:chExt cx="7207200" cy="1871640"/>
          </a:xfrm>
        </p:grpSpPr>
        <p:sp>
          <p:nvSpPr>
            <p:cNvPr id="1515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1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532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7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558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578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1675800" y="370044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łosygnałowy dla dużych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485280" y="857160"/>
            <a:ext cx="7706160" cy="3603960"/>
            <a:chOff x="485280" y="857160"/>
            <a:chExt cx="7706160" cy="3603960"/>
          </a:xfrm>
        </p:grpSpPr>
        <p:sp>
          <p:nvSpPr>
            <p:cNvPr id="1600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617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2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643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6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663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6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685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485280" y="857160"/>
            <a:ext cx="7706160" cy="5837760"/>
            <a:chOff x="485280" y="857160"/>
            <a:chExt cx="7706160" cy="5837760"/>
          </a:xfrm>
        </p:grpSpPr>
        <p:grpSp>
          <p:nvGrpSpPr>
            <p:cNvPr id="1699" name=""/>
            <p:cNvGrpSpPr/>
            <p:nvPr/>
          </p:nvGrpSpPr>
          <p:grpSpPr>
            <a:xfrm>
              <a:off x="1351080" y="4619520"/>
              <a:ext cx="6285600" cy="2075400"/>
              <a:chOff x="1351080" y="4619520"/>
              <a:chExt cx="6285600" cy="2075400"/>
            </a:xfrm>
          </p:grpSpPr>
          <p:sp>
            <p:nvSpPr>
              <p:cNvPr id="1700" name=""/>
              <p:cNvSpPr/>
              <p:nvPr/>
            </p:nvSpPr>
            <p:spPr>
              <a:xfrm>
                <a:off x="4300920" y="61848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" name=""/>
              <p:cNvGrpSpPr/>
              <p:nvPr/>
            </p:nvGrpSpPr>
            <p:grpSpPr>
              <a:xfrm>
                <a:off x="1351080" y="4619520"/>
                <a:ext cx="6285600" cy="2057400"/>
                <a:chOff x="1351080" y="4619520"/>
                <a:chExt cx="6285600" cy="2057400"/>
              </a:xfrm>
            </p:grpSpPr>
            <p:sp>
              <p:nvSpPr>
                <p:cNvPr id="1702" name=""/>
                <p:cNvSpPr/>
                <p:nvPr/>
              </p:nvSpPr>
              <p:spPr>
                <a:xfrm flipV="1">
                  <a:off x="26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1486080" y="5770440"/>
                  <a:ext cx="1800" cy="2700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56572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139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351080" y="549900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V="1">
                  <a:off x="1486080" y="504936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486080" y="5049720"/>
                  <a:ext cx="2070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66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1407960" y="5483160"/>
                  <a:ext cx="156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~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1846440" y="47354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757520" y="46195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925360" y="55450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7160" y="542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6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35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46752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6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465720" y="5410080"/>
                  <a:ext cx="18108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2386080" y="4960440"/>
                  <a:ext cx="9072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>
                  <a:off x="2386080" y="5049720"/>
                  <a:ext cx="90720" cy="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385360" y="4708440"/>
                  <a:ext cx="51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76080" y="4826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836440" y="461952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924280" y="473544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b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83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106440" y="54277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195720" y="554508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'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9" name=""/>
                <p:cNvGrpSpPr/>
                <p:nvPr/>
              </p:nvGrpSpPr>
              <p:grpSpPr>
                <a:xfrm>
                  <a:off x="3646440" y="5230800"/>
                  <a:ext cx="179640" cy="719280"/>
                  <a:chOff x="3646440" y="5230800"/>
                  <a:chExt cx="179640" cy="719280"/>
                </a:xfrm>
              </p:grpSpPr>
              <p:sp>
                <p:nvSpPr>
                  <p:cNvPr id="1730" name=""/>
                  <p:cNvSpPr/>
                  <p:nvPr/>
                </p:nvSpPr>
                <p:spPr>
                  <a:xfrm>
                    <a:off x="3737160" y="5230800"/>
                    <a:ext cx="180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 flipH="1">
                    <a:off x="3646440" y="5230800"/>
                    <a:ext cx="9036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73716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3" name=""/>
                <p:cNvSpPr/>
                <p:nvPr/>
              </p:nvSpPr>
              <p:spPr>
                <a:xfrm>
                  <a:off x="3826080" y="55180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556080" y="5049720"/>
                  <a:ext cx="126072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186440" y="504972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007160" y="550080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007160" y="558972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186440" y="5589720"/>
                  <a:ext cx="180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096080" y="6040440"/>
                  <a:ext cx="18072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35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162680" y="5027760"/>
                  <a:ext cx="522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816800" y="5049720"/>
                  <a:ext cx="144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635720" y="550080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635720" y="558972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816800" y="5589720"/>
                  <a:ext cx="144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4726080" y="6040440"/>
                  <a:ext cx="1810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4621320" y="4680000"/>
                  <a:ext cx="170676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b’c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(1+g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 R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’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6075720" y="5049720"/>
                  <a:ext cx="144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705720" y="4822920"/>
                  <a:ext cx="47628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339933"/>
                      </a:solidFill>
                      <a:latin typeface="Arial"/>
                    </a:rPr>
                    <a:t>L</a:t>
                  </a: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61680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52644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52500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986800" y="6041880"/>
                  <a:ext cx="17928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940720" y="541008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75720" y="5500800"/>
                  <a:ext cx="1440" cy="2696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 flipV="1">
                  <a:off x="5986440" y="5679720"/>
                  <a:ext cx="8892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6075720" y="5679720"/>
                  <a:ext cx="9036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noFill/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306760" y="5524560"/>
                  <a:ext cx="37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   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399280" y="564192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075720" y="5049720"/>
                  <a:ext cx="54108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7066080" y="5230800"/>
                  <a:ext cx="179640" cy="719280"/>
                  <a:chOff x="7066080" y="5230800"/>
                  <a:chExt cx="179640" cy="71928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7156800" y="5230800"/>
                    <a:ext cx="144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>
                    <a:off x="7066080" y="5230800"/>
                    <a:ext cx="907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715680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7" name=""/>
                <p:cNvSpPr/>
                <p:nvPr/>
              </p:nvSpPr>
              <p:spPr>
                <a:xfrm>
                  <a:off x="3851640" y="461952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3623040" y="6448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1666440" y="5496120"/>
                  <a:ext cx="264600" cy="371520"/>
                  <a:chOff x="1666440" y="5496120"/>
                  <a:chExt cx="264600" cy="37152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1811520" y="5684760"/>
                    <a:ext cx="119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1666440" y="5496120"/>
                    <a:ext cx="1364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2" name=""/>
                <p:cNvSpPr/>
                <p:nvPr/>
              </p:nvSpPr>
              <p:spPr>
                <a:xfrm>
                  <a:off x="3852720" y="4651560"/>
                  <a:ext cx="50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’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7317360" y="5338800"/>
                  <a:ext cx="319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4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0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791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817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6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837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72120" y="3192480"/>
              <a:ext cx="122040" cy="1001520"/>
            </a:xfrm>
            <a:prstGeom prst="downArrow">
              <a:avLst>
                <a:gd name="adj1" fmla="val 50000"/>
                <a:gd name="adj2" fmla="val 20516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8920" y="336060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fekt Mill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3421800">
              <a:off x="4697280" y="3838320"/>
              <a:ext cx="1336680" cy="2175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861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ff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ff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 flipH="1" flipV="1">
              <a:off x="2276280" y="4341600"/>
              <a:ext cx="2485800" cy="50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7002360" y="3075120"/>
            <a:ext cx="376200" cy="1763640"/>
          </a:xfrm>
          <a:custGeom>
            <a:avLst/>
            <a:gdLst/>
            <a:ahLst/>
            <a:rect l="l" t="t" r="r" b="b"/>
            <a:pathLst>
              <a:path w="237" h="1111">
                <a:moveTo>
                  <a:pt x="73" y="0"/>
                </a:moveTo>
                <a:cubicBezTo>
                  <a:pt x="145" y="131"/>
                  <a:pt x="217" y="263"/>
                  <a:pt x="227" y="406"/>
                </a:cubicBezTo>
                <a:cubicBezTo>
                  <a:pt x="237" y="549"/>
                  <a:pt x="168" y="743"/>
                  <a:pt x="130" y="860"/>
                </a:cubicBezTo>
                <a:cubicBezTo>
                  <a:pt x="92" y="977"/>
                  <a:pt x="46" y="1044"/>
                  <a:pt x="0" y="1111"/>
                </a:cubicBezTo>
              </a:path>
            </a:pathLst>
          </a:custGeom>
          <a:noFill/>
          <a:ln w="19080">
            <a:solidFill>
              <a:srgbClr val="3399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6" name=""/>
          <p:cNvGrpSpPr/>
          <p:nvPr/>
        </p:nvGrpSpPr>
        <p:grpSpPr>
          <a:xfrm>
            <a:off x="3287160" y="4313160"/>
            <a:ext cx="3021840" cy="1626120"/>
            <a:chOff x="3287160" y="4313160"/>
            <a:chExt cx="3021840" cy="1626120"/>
          </a:xfrm>
        </p:grpSpPr>
        <p:sp>
          <p:nvSpPr>
            <p:cNvPr id="1877" name=""/>
            <p:cNvSpPr/>
            <p:nvPr/>
          </p:nvSpPr>
          <p:spPr>
            <a:xfrm>
              <a:off x="3406320" y="4883040"/>
              <a:ext cx="165960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 sk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287160" y="4313160"/>
              <a:ext cx="30218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1+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07120" y="5429160"/>
              <a:ext cx="11426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U/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1871640" y="1679400"/>
            <a:ext cx="4937400" cy="1958400"/>
            <a:chOff x="1871640" y="1679400"/>
            <a:chExt cx="4937400" cy="1958400"/>
          </a:xfrm>
        </p:grpSpPr>
        <p:sp>
          <p:nvSpPr>
            <p:cNvPr id="1882" name=""/>
            <p:cNvSpPr/>
            <p:nvPr/>
          </p:nvSpPr>
          <p:spPr>
            <a:xfrm flipV="1">
              <a:off x="4812120" y="2272680"/>
              <a:ext cx="144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641480" y="301680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44720" y="3612600"/>
              <a:ext cx="2278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057760" y="2273040"/>
              <a:ext cx="1377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286000" y="2148840"/>
              <a:ext cx="460080" cy="248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58040" y="28688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03360" y="1679400"/>
              <a:ext cx="372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00440" y="2273040"/>
              <a:ext cx="216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8524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240" y="2767680"/>
              <a:ext cx="231840" cy="4968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9692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26480" y="25495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2745720" y="2521440"/>
              <a:ext cx="230040" cy="989280"/>
              <a:chOff x="2745720" y="2521440"/>
              <a:chExt cx="230040" cy="989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286092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27457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8609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8" name=""/>
            <p:cNvSpPr/>
            <p:nvPr/>
          </p:nvSpPr>
          <p:spPr>
            <a:xfrm>
              <a:off x="4639320" y="2767680"/>
              <a:ext cx="347040" cy="3729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2120" y="2892240"/>
              <a:ext cx="1440" cy="37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469656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481212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39320" y="3014280"/>
              <a:ext cx="347040" cy="3751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236840" y="25452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53480" y="27057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435120" y="227304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6880" y="289224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6880" y="301680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35120" y="301680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19920" y="3635640"/>
              <a:ext cx="229680" cy="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812120" y="2273040"/>
              <a:ext cx="68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22800" y="1824840"/>
              <a:ext cx="326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6074280" y="2521440"/>
              <a:ext cx="228960" cy="989280"/>
              <a:chOff x="6074280" y="2521440"/>
              <a:chExt cx="228960" cy="989280"/>
            </a:xfrm>
          </p:grpSpPr>
          <p:sp>
            <p:nvSpPr>
              <p:cNvPr id="1913" name=""/>
              <p:cNvSpPr/>
              <p:nvPr/>
            </p:nvSpPr>
            <p:spPr>
              <a:xfrm>
                <a:off x="618876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607428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8876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2324160" y="2799720"/>
              <a:ext cx="314640" cy="435600"/>
              <a:chOff x="2324160" y="2799720"/>
              <a:chExt cx="314640" cy="435600"/>
            </a:xfrm>
          </p:grpSpPr>
          <p:sp>
            <p:nvSpPr>
              <p:cNvPr id="1917" name=""/>
              <p:cNvSpPr/>
              <p:nvPr/>
            </p:nvSpPr>
            <p:spPr>
              <a:xfrm>
                <a:off x="2505600" y="305244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324160" y="2799720"/>
                <a:ext cx="31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 `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6489720" y="283860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572080" y="2189520"/>
              <a:ext cx="59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2036160" y="224928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71640" y="289224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1042920" y="2006640"/>
            <a:ext cx="3127320" cy="2112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0" y="-5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4937040" y="1276200"/>
          <a:ext cx="3557520" cy="24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276200"/>
                    <a:ext cx="35575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7" name=""/>
          <p:cNvSpPr/>
          <p:nvPr/>
        </p:nvSpPr>
        <p:spPr>
          <a:xfrm>
            <a:off x="25560" y="3827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863640" y="1000080"/>
            <a:ext cx="4893840" cy="2809800"/>
            <a:chOff x="863640" y="1000080"/>
            <a:chExt cx="4893840" cy="2809800"/>
          </a:xfrm>
        </p:grpSpPr>
        <p:graphicFrame>
          <p:nvGraphicFramePr>
            <p:cNvPr id="1929" name=""/>
            <p:cNvGraphicFramePr/>
            <p:nvPr/>
          </p:nvGraphicFramePr>
          <p:xfrm>
            <a:off x="863640" y="1501560"/>
            <a:ext cx="2361960" cy="134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640" y="1501560"/>
                      <a:ext cx="2361960" cy="13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1" name=""/>
                <p:cNvSpPr txBox="1"/>
                <p:nvPr/>
              </p:nvSpPr>
              <p:spPr>
                <a:xfrm>
                  <a:off x="939600" y="3025800"/>
                  <a:ext cx="251460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32" name=""/>
            <p:cNvSpPr/>
            <p:nvPr/>
          </p:nvSpPr>
          <p:spPr>
            <a:xfrm>
              <a:off x="1484640" y="1000080"/>
              <a:ext cx="42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kład całkujący RC (pierwszego rzęd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793800" y="4051440"/>
            <a:ext cx="7970400" cy="2552040"/>
            <a:chOff x="793800" y="4051440"/>
            <a:chExt cx="7970400" cy="2552040"/>
          </a:xfrm>
        </p:grpSpPr>
        <p:grpSp>
          <p:nvGrpSpPr>
            <p:cNvPr id="1934" name=""/>
            <p:cNvGrpSpPr/>
            <p:nvPr/>
          </p:nvGrpSpPr>
          <p:grpSpPr>
            <a:xfrm>
              <a:off x="6173640" y="4051440"/>
              <a:ext cx="2590560" cy="2119680"/>
              <a:chOff x="6173640" y="4051440"/>
              <a:chExt cx="2590560" cy="2119680"/>
            </a:xfrm>
          </p:grpSpPr>
          <p:sp>
            <p:nvSpPr>
              <p:cNvPr id="1935" name=""/>
              <p:cNvSpPr/>
              <p:nvPr/>
            </p:nvSpPr>
            <p:spPr>
              <a:xfrm>
                <a:off x="6249600" y="424800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73640" y="569592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249600" y="478152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011360" y="4781520"/>
                <a:ext cx="1066680" cy="9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141680" y="4379760"/>
                <a:ext cx="98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50800" y="566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8291880" y="5127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258960" y="4770360"/>
                <a:ext cx="2271240" cy="929880"/>
              </a:xfrm>
              <a:custGeom>
                <a:avLst/>
                <a:gdLst/>
                <a:ahLst/>
                <a:rect l="l" t="t" r="r" b="b"/>
                <a:pathLst>
                  <a:path w="1431" h="586">
                    <a:moveTo>
                      <a:pt x="0" y="7"/>
                    </a:moveTo>
                    <a:cubicBezTo>
                      <a:pt x="105" y="4"/>
                      <a:pt x="207" y="0"/>
                      <a:pt x="285" y="7"/>
                    </a:cubicBezTo>
                    <a:cubicBezTo>
                      <a:pt x="363" y="14"/>
                      <a:pt x="419" y="33"/>
                      <a:pt x="471" y="52"/>
                    </a:cubicBezTo>
                    <a:cubicBezTo>
                      <a:pt x="523" y="71"/>
                      <a:pt x="552" y="90"/>
                      <a:pt x="597" y="121"/>
                    </a:cubicBezTo>
                    <a:cubicBezTo>
                      <a:pt x="642" y="152"/>
                      <a:pt x="684" y="189"/>
                      <a:pt x="744" y="241"/>
                    </a:cubicBezTo>
                    <a:cubicBezTo>
                      <a:pt x="804" y="293"/>
                      <a:pt x="899" y="382"/>
                      <a:pt x="960" y="433"/>
                    </a:cubicBezTo>
                    <a:cubicBezTo>
                      <a:pt x="1021" y="484"/>
                      <a:pt x="1053" y="523"/>
                      <a:pt x="1110" y="547"/>
                    </a:cubicBezTo>
                    <a:cubicBezTo>
                      <a:pt x="1167" y="571"/>
                      <a:pt x="1249" y="574"/>
                      <a:pt x="1302" y="580"/>
                    </a:cubicBezTo>
                    <a:cubicBezTo>
                      <a:pt x="1355" y="586"/>
                      <a:pt x="1409" y="582"/>
                      <a:pt x="1431" y="58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177320" y="4790880"/>
                <a:ext cx="52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006680" y="4786200"/>
                <a:ext cx="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273000" y="4051440"/>
                <a:ext cx="811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 sk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793800" y="4189320"/>
                  <a:ext cx="5157720" cy="24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7" name=""/>
          <p:cNvSpPr/>
          <p:nvPr/>
        </p:nvSpPr>
        <p:spPr>
          <a:xfrm>
            <a:off x="4230720" y="3306600"/>
            <a:ext cx="198360" cy="828720"/>
          </a:xfrm>
          <a:prstGeom prst="downArrow">
            <a:avLst>
              <a:gd name="adj1" fmla="val 50000"/>
              <a:gd name="adj2" fmla="val 10444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6280" y="1389240"/>
            <a:ext cx="3038400" cy="16617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2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1568520" y="1477440"/>
            <a:ext cx="5478480" cy="2621520"/>
            <a:chOff x="1568520" y="1477440"/>
            <a:chExt cx="5478480" cy="2621520"/>
          </a:xfrm>
        </p:grpSpPr>
        <p:sp>
          <p:nvSpPr>
            <p:cNvPr id="1974" name=""/>
            <p:cNvSpPr/>
            <p:nvPr/>
          </p:nvSpPr>
          <p:spPr>
            <a:xfrm>
              <a:off x="5429160" y="231768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86320" y="1711440"/>
              <a:ext cx="19980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686040" y="152712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411800" y="35798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63852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10200" y="2495520"/>
              <a:ext cx="596880" cy="5461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4414680" y="2558880"/>
              <a:ext cx="293760" cy="122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988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594320" y="2917800"/>
              <a:ext cx="1141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210200" y="277020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4708440" y="1477440"/>
              <a:ext cx="792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49520" y="2768760"/>
              <a:ext cx="76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4716360" y="296712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86320" y="333540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686040" y="238932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686040" y="380376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00560" y="1509840"/>
              <a:ext cx="299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54840" y="2681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143760" y="2744640"/>
              <a:ext cx="2044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54840" y="2517840"/>
              <a:ext cx="363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235560" y="150984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659480" y="1477800"/>
              <a:ext cx="777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8804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659480" y="401148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73880" y="2436840"/>
              <a:ext cx="573120" cy="345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575400" y="2479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03680" y="21448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14480" y="2840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6" name=""/>
            <p:cNvGrpSpPr/>
            <p:nvPr/>
          </p:nvGrpSpPr>
          <p:grpSpPr>
            <a:xfrm>
              <a:off x="5078520" y="2192400"/>
              <a:ext cx="56880" cy="245880"/>
              <a:chOff x="5078520" y="2192400"/>
              <a:chExt cx="56880" cy="245880"/>
            </a:xfrm>
          </p:grpSpPr>
          <p:sp>
            <p:nvSpPr>
              <p:cNvPr id="2017" name=""/>
              <p:cNvSpPr/>
              <p:nvPr/>
            </p:nvSpPr>
            <p:spPr>
              <a:xfrm>
                <a:off x="507852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13540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9" name=""/>
            <p:cNvSpPr/>
            <p:nvPr/>
          </p:nvSpPr>
          <p:spPr>
            <a:xfrm>
              <a:off x="5157720" y="23209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48160" y="2513160"/>
              <a:ext cx="1908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83080" y="402912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520240" y="309564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762200" y="27496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762200" y="404352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029320" y="288144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1762200" y="27352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 rot="16200000">
              <a:off x="2191320" y="2573280"/>
              <a:ext cx="12996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568520" y="3122640"/>
              <a:ext cx="38736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1762200" y="31780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8928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599000" y="1652760"/>
              <a:ext cx="190440" cy="52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672080" y="2265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608360" y="3351240"/>
              <a:ext cx="198720" cy="48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723040" y="22939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3017880" y="2890800"/>
              <a:ext cx="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090960" y="177336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168720" y="331164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1" name=""/>
            <p:cNvGrpSpPr/>
            <p:nvPr/>
          </p:nvGrpSpPr>
          <p:grpSpPr>
            <a:xfrm>
              <a:off x="3411360" y="2641680"/>
              <a:ext cx="57240" cy="245880"/>
              <a:chOff x="3411360" y="2641680"/>
              <a:chExt cx="57240" cy="245880"/>
            </a:xfrm>
          </p:grpSpPr>
          <p:sp>
            <p:nvSpPr>
              <p:cNvPr id="2042" name=""/>
              <p:cNvSpPr/>
              <p:nvPr/>
            </p:nvSpPr>
            <p:spPr>
              <a:xfrm>
                <a:off x="341136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46860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2046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2047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9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2080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2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7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9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2120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3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2134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6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4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2145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7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3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4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65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0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71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3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4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5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6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8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9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2194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2217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2220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2257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3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4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5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6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344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984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mał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2393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2396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0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242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244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247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248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250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253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257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257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1101600" y="313560"/>
            <a:ext cx="6727680" cy="5414760"/>
            <a:chOff x="1101600" y="313560"/>
            <a:chExt cx="6727680" cy="5414760"/>
          </a:xfrm>
        </p:grpSpPr>
        <mc:AlternateContent>
          <mc:Choice xmlns:a14="http://schemas.microsoft.com/office/drawing/2010/main" Requires="a14">
            <p:sp>
              <p:nvSpPr>
                <p:cNvPr id="2596" name=""/>
                <p:cNvSpPr txBox="1"/>
                <p:nvPr/>
              </p:nvSpPr>
              <p:spPr>
                <a:xfrm>
                  <a:off x="2297160" y="4811760"/>
                  <a:ext cx="804960" cy="78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597" name=""/>
            <p:cNvGrpSpPr/>
            <p:nvPr/>
          </p:nvGrpSpPr>
          <p:grpSpPr>
            <a:xfrm>
              <a:off x="1101600" y="313560"/>
              <a:ext cx="6727680" cy="5414760"/>
              <a:chOff x="1101600" y="313560"/>
              <a:chExt cx="6727680" cy="5414760"/>
            </a:xfrm>
          </p:grpSpPr>
          <p:sp>
            <p:nvSpPr>
              <p:cNvPr id="2598" name=""/>
              <p:cNvSpPr/>
              <p:nvPr/>
            </p:nvSpPr>
            <p:spPr>
              <a:xfrm flipV="1">
                <a:off x="2146680" y="1283760"/>
                <a:ext cx="0" cy="329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52800" y="4582080"/>
                <a:ext cx="512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4622040" y="2469960"/>
                <a:ext cx="2232360" cy="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622040" y="2473200"/>
                <a:ext cx="0" cy="216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473240" y="434088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578680" y="1660680"/>
                <a:ext cx="1526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dB/dekad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44640" y="2076840"/>
                <a:ext cx="291600" cy="10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H="1">
                <a:off x="2104560" y="24732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195920" y="2083320"/>
                <a:ext cx="109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17163000">
                <a:off x="3579120" y="276588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2104920" y="2644200"/>
                <a:ext cx="24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101600" y="264132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3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H="1">
                <a:off x="3815640" y="2473200"/>
                <a:ext cx="806400" cy="10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>
                <a:off x="2341080" y="3556440"/>
                <a:ext cx="147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15640" y="3556440"/>
                <a:ext cx="0" cy="102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rot="6316200">
                <a:off x="1855800" y="89316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2142360" y="3556440"/>
                <a:ext cx="28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15" name=""/>
                <p:cNvSpPr txBox="1"/>
                <p:nvPr/>
              </p:nvSpPr>
              <p:spPr>
                <a:xfrm>
                  <a:off x="5197320" y="4842000"/>
                  <a:ext cx="175608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e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6" name=""/>
            <p:cNvSpPr/>
            <p:nvPr/>
          </p:nvSpPr>
          <p:spPr>
            <a:xfrm flipH="1" flipV="1">
              <a:off x="4646160" y="4708440"/>
              <a:ext cx="43812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3243240" y="4671720"/>
              <a:ext cx="52884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6-03-09T15:55:40Z</dcterms:modified>
  <cp:revision>132</cp:revision>
  <dc:subject/>
  <dc:title>Właściwości częstotliwościowe wzmacniaczy tranzystorowych</dc:title>
</cp:coreProperties>
</file>